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577513" cy="7556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664-6E27-493D-918E-82161370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8869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52120" y="4028760"/>
            <a:ext cx="8869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108-D17B-4EB3-891B-0C00CBFC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676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2120" y="402876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96760" y="402876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F2D-3F0D-495F-B44D-5F8F2C23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50920" y="195912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9360" y="195912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52120" y="402876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50920" y="402876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49360" y="4028760"/>
            <a:ext cx="28555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4E7-B439-4B3D-A575-115C83F3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52120" y="1959120"/>
            <a:ext cx="8869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F33-1AB2-465B-A756-3E5CFB74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8869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D23-AD8C-474C-B83A-C7A43131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43279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96760" y="1959120"/>
            <a:ext cx="43279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B61-24B9-4315-AB4E-9BDFC500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349-587A-4558-A6E4-5120F873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52120" y="631800"/>
            <a:ext cx="88693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2BC-A6EF-4A6D-92A6-42A7FCA5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96760" y="1959120"/>
            <a:ext cx="43279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52120" y="402876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5F1-BCE1-4245-A8DF-10691CB4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43279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676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6760" y="402876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5E2-F25A-403A-AFA6-98300CD6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212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96760" y="1959120"/>
            <a:ext cx="43279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52120" y="4028760"/>
            <a:ext cx="8869320" cy="18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891-36D0-434F-8BE3-FCE7B39E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2120" y="631800"/>
            <a:ext cx="88693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59120"/>
            <a:ext cx="886932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2480" y="6586200"/>
            <a:ext cx="2293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0680" y="6586200"/>
            <a:ext cx="31226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26440" y="6586200"/>
            <a:ext cx="229392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47D3E-627F-41F0-8437-709D0C13592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 que é a programaçã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2480" y="1958760"/>
            <a:ext cx="887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Eu encadear palavras mágicas para fazer fótons e elétrons dança, e ainda tem a audácia de reclamar sobre o meu trabalho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Phil Darnowsk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52480" y="1958760"/>
            <a:ext cx="887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00360" y="1959120"/>
            <a:ext cx="6048360" cy="437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2376360" y="2590560"/>
            <a:ext cx="1368720" cy="3632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4760" y="2952720"/>
            <a:ext cx="2235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cute o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55640" y="3743280"/>
            <a:ext cx="14097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52480" y="1773360"/>
            <a:ext cx="4187880" cy="530280"/>
          </a:xfrm>
          <a:prstGeom prst="rect">
            <a:avLst/>
          </a:prstGeom>
          <a:solidFill>
            <a:srgbClr val="e6e6f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3640" y="2448000"/>
            <a:ext cx="4176720" cy="136836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3640" y="4103640"/>
            <a:ext cx="4176720" cy="2087640"/>
          </a:xfrm>
          <a:prstGeom prst="rect">
            <a:avLst/>
          </a:prstGeom>
          <a:solidFill>
            <a:srgbClr val="ccfff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3640" y="6335640"/>
            <a:ext cx="4176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natomia de um "sketch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24000" y="1814400"/>
            <a:ext cx="431964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Preparac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(500,5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ackground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ill(255,200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ct(100,200,200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ill(100,100,2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lipse(400,350,150,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Outras definic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1773360"/>
            <a:ext cx="1656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par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4720" y="2765520"/>
            <a:ext cx="1706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24720" y="4535640"/>
            <a:ext cx="1439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eti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43800" y="5716440"/>
            <a:ext cx="2357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utras defini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111280" y="2016000"/>
            <a:ext cx="1298520" cy="7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83280" y="3024360"/>
            <a:ext cx="1442880" cy="215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183280" y="4751280"/>
            <a:ext cx="14428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38200" y="5975280"/>
            <a:ext cx="1606680" cy="57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erativid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58760"/>
            <a:ext cx="432900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43164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Experimente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7120" y="1958760"/>
            <a:ext cx="432900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43164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Droid Sans Fallback"/>
              </a:rPr>
              <a:t>Experimente #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52360" y="2862360"/>
            <a:ext cx="468000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(500,5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ackground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ill(100,100,2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lipse(mouseX,mouseY,50,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32360" y="2894040"/>
            <a:ext cx="453564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(500,500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ackground(0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ill(100,100,2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lipse(mouseX,mouseY,50,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Variave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28640" y="2087640"/>
            <a:ext cx="31226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ize(500,5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x = 2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y = 250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ackground(0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ill(100,100,2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lipse(x,y,50,5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x = (x + 2) % 5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y = (y + 1) % 5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16720" y="2160720"/>
            <a:ext cx="3165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claração de variá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78560" y="3197160"/>
            <a:ext cx="32781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56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ização de variá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4751280"/>
            <a:ext cx="2448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ção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64360" y="5918040"/>
            <a:ext cx="2638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868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ualização de variáv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022200" y="2303280"/>
            <a:ext cx="2451240" cy="74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166920" y="3384720"/>
            <a:ext cx="23068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05120" y="4896000"/>
            <a:ext cx="1731960" cy="43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605120" y="6046560"/>
            <a:ext cx="1587240" cy="74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erações 2 : Ev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2480" y="1958760"/>
            <a:ext cx="60595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t">
            <a:normAutofit/>
          </a:bodyPr>
          <a:p>
            <a:pPr marL="43164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Adicionar na final de program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44720" y="2886120"/>
            <a:ext cx="3322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void mouseClick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y = mouse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2480" y="631440"/>
            <a:ext cx="88711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08000" y="1959120"/>
            <a:ext cx="532764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import ddf.minim.*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import ddf.minim.ugens.*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Minim minim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AudioOutput ou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Oscil osc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void setup(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size(500,5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x = 20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y = 250;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minim = new Minim(this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out = minim.getLineOut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osc = new Oscil( 440, 0.5f, Waves.SINE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osc.patch( out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8800" y="2049480"/>
            <a:ext cx="4524480" cy="31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void draw(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background(0);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fill(100,200,255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ellipse(x,y,50,5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x = (x + 2) % 50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y = (y + 1) % 50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osc.setFrequency( 1500 - (y * 3) );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500"/>
            </a:br>
            <a:br>
              <a:rPr sz="1500"/>
            </a:b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void mouseClicked()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y = mouseY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11:53:02Z</dcterms:created>
  <dc:creator>phil </dc:creator>
  <dc:description/>
  <dc:language>en-US</dc:language>
  <cp:lastModifiedBy>phil </cp:lastModifiedBy>
  <dcterms:modified xsi:type="dcterms:W3CDTF">2014-10-23T19:51:53Z</dcterms:modified>
  <cp:revision>10</cp:revision>
  <dc:subject/>
  <dc:title/>
</cp:coreProperties>
</file>